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8207-41C0-446F-9594-072FB9BDE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9A8C-D8ED-439D-B8B2-A7077558F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28A7-CEFD-4E16-AAB0-2718123E6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833B-2439-4213-84A5-193D5044F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9727-9CE4-4985-8EA4-8C181CCF2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FAFD-BE48-4F42-858D-D526289B2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9031-23C0-401E-8573-627DBD388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569F-2101-4DF6-88D1-2817EF5E7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D4E0-008A-45BE-A6AA-77AFAFD76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D063-45AB-4D01-AD15-5B918A57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BAE3-4335-486D-BE5A-71223F8C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0A71-4BA9-4F08-8876-839354EB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3A00D-6DB0-4175-AF5F-108BF90AD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38680"/>
            <a:ext cx="685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382920"/>
            <a:ext cx="6858000" cy="12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s/Wie/W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_____________ geht’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_______________ bist d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419720"/>
            <a:ext cx="670572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l in the 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nja spiel______ Fussb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ör_____ du gern Musi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ch reit________ nicht ge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683320"/>
            <a:ext cx="685800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s passt?  Either “ich, du, er, or sie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 heisst Ma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 ist mein Fre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 klettere.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3459240"/>
            <a:ext cx="14475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./ 6 Punk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4120" y="3992400"/>
            <a:ext cx="14475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./ 6 Punk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4120" y="5927760"/>
            <a:ext cx="14475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./ 12 Punk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55760"/>
            <a:ext cx="685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228600"/>
            <a:ext cx="38124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04920" y="304920"/>
            <a:ext cx="15228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228600"/>
            <a:ext cx="571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34120" y="379440"/>
            <a:ext cx="14475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./ 10Punk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304920"/>
            <a:ext cx="6705720" cy="28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s kann ich fragen und antwort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 question or ans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lo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.  Ich heisse Florian.  ___________________________________________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ch heisse Mariska.  Wie geht’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.  Was machst du ger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ederseh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76320" y="3198960"/>
            <a:ext cx="685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320" y="2971800"/>
            <a:ext cx="38088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28600" y="3048120"/>
            <a:ext cx="15228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" name=""/>
          <p:cNvSpPr/>
          <p:nvPr/>
        </p:nvSpPr>
        <p:spPr>
          <a:xfrm>
            <a:off x="76320" y="2971800"/>
            <a:ext cx="571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934320"/>
            <a:ext cx="68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 passt nicht?  (What doesn’t fit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s, zwei, drei, sec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4419720"/>
            <a:ext cx="685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4192560"/>
            <a:ext cx="38124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04920" y="4268880"/>
            <a:ext cx="15228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4192560"/>
            <a:ext cx="571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4191120"/>
            <a:ext cx="685800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ening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ircle the picture which represents the activity mentioned in the dialog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2280" y="4846680"/>
            <a:ext cx="38124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04920" y="4923000"/>
            <a:ext cx="15228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6" name=""/>
          <p:cNvSpPr/>
          <p:nvPr/>
        </p:nvSpPr>
        <p:spPr>
          <a:xfrm>
            <a:off x="76320" y="5227560"/>
            <a:ext cx="6705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re are the activities which are offered at “Schlaumeier Summer Camp”. Listen to the dialogue and circle the activities in which Lisa particip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5684760"/>
            <a:ext cx="381240" cy="381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04920" y="5761080"/>
            <a:ext cx="15228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9" name=""/>
          <p:cNvSpPr/>
          <p:nvPr/>
        </p:nvSpPr>
        <p:spPr>
          <a:xfrm>
            <a:off x="76320" y="6080040"/>
            <a:ext cx="68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rite the number or letter which you h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320" y="6400800"/>
            <a:ext cx="38088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28600" y="6477120"/>
            <a:ext cx="15228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2" name=""/>
          <p:cNvSpPr/>
          <p:nvPr/>
        </p:nvSpPr>
        <p:spPr>
          <a:xfrm>
            <a:off x="76320" y="6400800"/>
            <a:ext cx="6858000" cy="12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late any 3 of the following into Germ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4120" y="4343400"/>
            <a:ext cx="14475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./ 5 Punk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34120" y="4923000"/>
            <a:ext cx="14475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./ 6 Punk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34120" y="6066000"/>
            <a:ext cx="14475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./ 10 Punk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4120" y="6553080"/>
            <a:ext cx="14475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./ 12 Punk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6320" y="76320"/>
            <a:ext cx="38088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28600" y="152280"/>
            <a:ext cx="15228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9" name=""/>
          <p:cNvSpPr/>
          <p:nvPr/>
        </p:nvSpPr>
        <p:spPr>
          <a:xfrm>
            <a:off x="5334120" y="152280"/>
            <a:ext cx="14475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./ 10 Punk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6320" y="74520"/>
            <a:ext cx="685800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ing:  True or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320" y="685800"/>
            <a:ext cx="38088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52280" y="762120"/>
            <a:ext cx="15264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3" name=""/>
          <p:cNvSpPr/>
          <p:nvPr/>
        </p:nvSpPr>
        <p:spPr>
          <a:xfrm>
            <a:off x="0" y="762120"/>
            <a:ext cx="685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rüber kann ich schreib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about the person listed using all of the information provi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Click to view full size image"/>
          <p:cNvPicPr/>
          <p:nvPr/>
        </p:nvPicPr>
        <p:blipFill>
          <a:blip r:embed="rId1"/>
          <a:srcRect l="50005" t="10670" r="6000" b="17334"/>
          <a:stretch/>
        </p:blipFill>
        <p:spPr>
          <a:xfrm>
            <a:off x="228600" y="1600200"/>
            <a:ext cx="1676520" cy="2057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86000" y="1752480"/>
            <a:ext cx="16002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v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tar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efon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1600200"/>
            <a:ext cx="14475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./ 20 Punk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19:38:34Z</dcterms:created>
  <dc:creator>udsd</dc:creator>
  <dc:description/>
  <dc:language>en-US</dc:language>
  <cp:lastModifiedBy>udsd</cp:lastModifiedBy>
  <dcterms:modified xsi:type="dcterms:W3CDTF">2009-01-13T15:48:49Z</dcterms:modified>
  <cp:revision>15</cp:revision>
  <dc:subject/>
  <dc:title>Slide 1</dc:title>
</cp:coreProperties>
</file>